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5-</a:t>
            </a:r>
            <a:fld id="{E32124FB-49D7-46DD-A90E-F5D35826F36B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nd the variation constant and an equation of variation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constant is 8.8. The equation of varia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8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2438280"/>
          <a:ext cx="176364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438280"/>
                    <a:ext cx="176364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d to do a job varies inversely as the number of peo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 work on the job  (assuming that they all work at the same rate). If it takes 180 days for 12 workers to complete a job, how long will it take 15 workers to complete the same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express the amount of time required, in days, as a function of the number of people work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vari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09680" y="3962520"/>
          <a:ext cx="11178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62520"/>
                    <a:ext cx="11178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ation of varia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160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 compu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take 144 days for 15 people to complete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09680" y="2362320"/>
          <a:ext cx="179244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17924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mbined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kinds of vari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ly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 power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 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sely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 power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 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ly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some positiv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235560" y="2286000"/>
          <a:ext cx="126216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2286000"/>
                    <a:ext cx="126216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24480" y="3505320"/>
          <a:ext cx="9874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505320"/>
                    <a:ext cx="9874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minance of a ligh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aries directly with the intensit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the light and inversely with the square d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the light. At a distance of 10 feet, a light meter reads 3 units for a 50-cd lamp. Find the luminance of a 27-cd lamp at a distance of 9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the second set of data into the equ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mp gives an luminance reading of 2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819520"/>
          <a:ext cx="1123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1123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62920" y="4343400"/>
          <a:ext cx="113328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4343400"/>
                    <a:ext cx="11332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riation and Applications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quations of direct, inverse, and combined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riation given values of th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ituation gives rise to a linear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sitive constant, we say that we hav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rect var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tha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directly proportional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tion constan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 of proportion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, always goes through the origin and rises from left to right.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; that is, the function is increasing on the interval (0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the slope of th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19520" y="327636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5257800"/>
            <a:ext cx="2209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722760" y="3827520"/>
          <a:ext cx="15462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3827520"/>
                    <a:ext cx="1546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2819520" y="3505320"/>
            <a:ext cx="99036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rect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variation constant and an equation of variation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2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know that (3, 42) is a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k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tion constant 14, is the rate of chang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equation of varia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24080" y="3505320"/>
          <a:ext cx="78768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505320"/>
                    <a:ext cx="7876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ages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shier earns an hourly wage. If the cashier worked 18 hours and earned $168.30, how much will the cashier earn if she works 33 hour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an express the amount of money earned as a function of the amount of hours wor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8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68.30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9.35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The hourly wage is the variation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we use the equation to find how much the cashier will earn if she works 33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3) = $9.35(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$308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ituation gives rise to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constant, we say that we hav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nverse var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inversely proportion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tion constan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of proporti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; that is, the function is decreasing on the interval (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Inverse Vari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reases; that is, the function is decreasing on the interval (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19520" y="327636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5257800"/>
            <a:ext cx="2209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210000">
            <a:off x="3276360" y="3429000"/>
            <a:ext cx="121896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0" y="0"/>
                </a:moveTo>
                <a:cubicBezTo>
                  <a:pt x="8" y="276"/>
                  <a:pt x="16" y="552"/>
                  <a:pt x="144" y="720"/>
                </a:cubicBezTo>
                <a:cubicBezTo>
                  <a:pt x="272" y="888"/>
                  <a:pt x="520" y="948"/>
                  <a:pt x="768" y="10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3657600"/>
          <a:ext cx="15238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657600"/>
                    <a:ext cx="15238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6:47Z</dcterms:modified>
  <cp:revision>191</cp:revision>
  <dc:subject/>
  <dc:title>No Slide Title</dc:title>
</cp:coreProperties>
</file>